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BEA5-EE41-4D0A-8E10-AC1707D17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0A29-EFDC-457D-AF7B-7FA043838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8DC-A06D-4CAF-ADBA-9DF0ED61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1D6-7765-4F14-A669-967E6793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FF1-6D24-4E1A-9EC6-E843A6A1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991-893F-45B9-8295-56A51464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4B4-F293-42C8-BACD-4A0E3107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915-6B9E-4603-BFAB-C1623320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2A1-A3BD-4742-9CEA-D7B2D824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AA7-6C59-4A67-94DC-22C4D2A7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E7D3-3757-4945-931D-872891ED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CD02-7B44-4550-8F88-39FBABE8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9F2-A312-4D71-84E7-B44EFBF1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1E7-594C-4904-9097-65B4A679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6F12-9324-4F7F-A958-F441BF693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Ocean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1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6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70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7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79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4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17:53Z</dcterms:modified>
  <cp:revision>118</cp:revision>
  <dc:subject/>
  <dc:title>Museum of World Stuff</dc:title>
</cp:coreProperties>
</file>